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BA5F-5D07-4156-8059-873D4366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0B97-BB45-433D-9E71-E990E9D2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FC70C-BD52-47DC-86CD-3BF90624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696AF-EB49-411A-A67E-68DCF069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A1818-CE06-4AF7-88B4-99C4F55C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80966-35D2-4618-8509-783D30E1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B4599-0C4B-4FEB-A13E-3A9279A6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5D8C4-BB23-498F-9A32-D64C06E4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9D7D4-BECB-4A9E-959C-D59D19A6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084C7-49E7-48A8-9D5E-46A7A8DB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61F35-8576-4BE8-8A9F-3C712B1B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A0758-4947-43EB-988F-77B179E7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D293-ACBD-40B5-8367-A962936B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80A51-6A2F-45E6-88D7-8F18F52D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90FB6-26E2-464C-93DC-6AE0FE41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7EDFB-A2B0-467B-B7CB-889AFA5E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A78FC-5B04-4A51-AC4B-8F215E14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ECC07-565B-4B39-8476-00DAAA71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641D8-60FE-4388-A5E9-7DE97ECE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0481E-9106-4D52-8EB1-ABF080A4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54BE9-462E-40D2-A0BB-CABC0230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0EF79-51D5-4F13-87D6-2AA327C6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D5FB4-95E2-4195-B895-EF2F38BF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A3A3-B80C-4718-8BA2-492F2D82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FAC5E-6759-4CDA-99A7-FD5316A3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60C35-E102-4A1A-AC0E-B0301FB1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77652-D163-4435-B351-FC4FF8B9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CB466-B1CF-4102-87F0-37DAA4D7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DD1F2-52F6-44E1-82D5-CAC7659F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6EB14-165C-40E9-ACAB-86757522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2DC57-4D1D-486B-AB74-F64500A9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6A8F7-DE73-4F85-84C1-2BE77720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528A1-48CF-4D60-BB9A-0104D0AF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DDB26-00C3-45A9-AB7B-AC869842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DBCF-D8E6-48BB-BBF2-E8AD8D31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82B4A-01E6-429C-821A-2258A8CD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03C64-ED99-4DB7-8DF0-99FE1935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82A0F-2253-4D75-84A9-D5C419A6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E33E9-1840-4661-A46F-347F9B75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DA783-67BB-4B41-B338-B8F4E17D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E83C9C-2C2D-4F53-8892-6CB24C3D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DDCC2-C119-4E0D-9845-F0F74C3E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75EC6-C91D-4801-820B-722F20A9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97431-26EB-42B5-8BC2-FD46B9D9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F33E2-B85E-43DF-939B-AF93D210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9BA0-8E60-4143-B4DA-20EBA1AB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A37C3-C9EC-4AE4-B38D-CC107C56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CBDCA-4D15-4459-A8C6-9A650F0E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36558-C051-4BFC-9E16-B2BF0478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F8D9F-F710-469E-B685-AEBD51CB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07C24-6792-48E3-B738-DB9C8842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C645-19F8-4F15-8E8E-7215AFA9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7759-367F-434C-A280-2C07B738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9C3D-D4F4-4E21-B938-C701C7EC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0267-9668-4F4B-BC6C-9E5EE1BE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56A3-EED8-4E7C-AC07-74AABB16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FE41-E229-425C-AC35-03177C3D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A335-7668-4DED-BBC0-3AD97198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2736-2816-4B9A-B41F-DDE3BC59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A493-CC2D-41B9-A65B-F8F160EE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E896-A4C0-4C7C-90FA-A5572182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4A53-15BF-4D4D-8E4B-C9241119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0B508-E6D5-4844-9D87-99687042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1FABC-6241-4F4C-9E77-891B58C9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39B73-29A2-4656-964B-1545C712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489FE-4051-4205-A24B-E897F5F0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BA928-06F0-41A5-9794-A05CFA0E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F783-324D-4982-943F-EC212047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CF46B-CC1A-4FCA-AABC-2A344D9F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F8347-D589-42CE-9BB1-C3A28F41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1DD5A-C4CF-4DC5-8206-0CBAC57D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B390B-0568-43DD-8F81-B810CE51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EB9EC-5CDC-43B0-B2A8-3019AFD9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5DD06-6AFF-4DB1-930C-36E0670C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49621-C63B-41F5-B94F-A54D712C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EAEC5-F493-41B2-A5F6-DD155C82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7CB5E-846E-45C1-B8F8-21E23E6C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0C87B-3C8F-4303-8E9F-999BC2AA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8218-42D9-4E86-83A1-C03FF4DD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1BDCD-96BC-4344-9971-12CEDD5A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100CA-9204-4742-B4E7-915D217B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99DE6-E7FD-4624-8E24-E22F2382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823C9-F97D-4EC5-A23F-A3B37B2B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AFB47-D7A8-40EF-8CF3-4EA3EF7A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16FBB-5D46-4896-AFD0-DAC2D43A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8C344-FE29-4A47-B69F-A9754A49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F98FF-8EFE-4916-B0F8-056BAD8B1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A9A9B-86E0-4D75-8413-84D2FB13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9FF2B-4A6A-4BCE-9EE3-0BF900BA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B1FE-ED7A-4AF4-AAC4-942DB808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9D4FE-1894-4B96-8D6B-1B9A9495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A82D5-401D-4CAE-ACCD-3203EFD0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27A44-0336-4EAD-A984-DAE6A09A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5E927-8CF2-47B0-8532-19315EE5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A1073-DBFE-4A61-90ED-BAE4297C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5A615-B1DE-4FDE-B2DF-98BDD1B1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89E3C-507A-4D69-9179-AF4715DC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DB46C-C174-4B1D-ABE7-394CA6E0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83F4A-FA69-485E-A808-2BEC688B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5C7F8-0C29-4CAC-8A9C-61753C04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3ABC-84C0-4896-83C0-5EC73330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1739B-9980-4B09-8364-F151685B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B3C44-BC9C-46FF-87BA-3DC9612D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D03FB-993B-43FD-8EF5-55F8F345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10287-865A-4F20-9AFF-F66E11D9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78E0A-3557-4FCE-957C-A7080957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A6504-CB06-416E-A1B4-8B3A0282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75838-629F-41C9-ADE4-43385E58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28FCC-BB93-49C8-A9CA-CD48850E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BC73F-02B0-4936-94BE-0F0DEDB9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08741-D09D-4FDF-83A3-5BCD0418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98BE-B862-4DC3-AD1B-7B82F718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F639E-C3B3-4491-8243-341EB0AB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D2529-D9BE-4B48-B068-5936DF28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6CE89-AFCA-4DFE-8E8E-A050EFE9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DE37D-6CF9-4962-B24A-3D027DA7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136BA-1C30-4733-ABFB-FB3429FA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1D431-EBBE-46BA-B071-53E3F2E5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17C9B-9FCE-4BCB-B678-6F201AFD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4C333-E43C-4F0C-B191-6FC0E148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3C3FA-7A6B-4C79-89B5-AA29DC3C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ADB3E-146F-42F6-9064-00755C11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B15E-55B6-4AF5-A28E-CC4AF9F1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198C9-004F-4AA7-A6AC-A8C9DA4D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2B08E-7902-40E8-9910-4114F1FB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6398D-E2C2-4337-A582-F07A05C4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984A2-617D-4296-ACBB-46C264AA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7A35B-24ED-4B90-834B-0055B9D8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7803F-E0A9-4893-A75D-E580BD41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77E96-0BF4-40D9-B8F7-8062BAAA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795CB-A3B7-4FF5-9484-4C0FF5D6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F405A-0793-4F06-A844-D78C572C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611FB-8BCA-4245-B351-E56B5002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5F49-A5A0-4C95-BD65-47CBE1B9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DA061-E203-454C-9385-CC6ABA7A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79988-9E43-4025-992C-1A211371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4A404-02A3-485D-A95A-A081B928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B5D86-ACC0-47BE-9318-F2F32A09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97ABD-508D-4CC7-80E2-FD4E611A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21302-574A-4B18-8D4F-4BB943B49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94C15-2BFA-4EDB-A39E-4C236AA2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3B7FB-E270-4CFF-B8BD-DA329939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56F92-C175-49C9-8AD2-4602F240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CDECA-A52C-41A4-BEC5-E6E6FC4B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DA98-3686-440A-854E-350BAC08942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BDB8-F937-471E-8521-5AE9A3A26B8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B59D-5B78-4CE6-A7CB-C18D7798D6F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2656-0FAC-4F5C-B8F8-85CA250755E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3CA3-F295-434B-9647-62D030047E8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F951-2D61-4560-8CC1-9FD84CFC645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5EAC-4EDC-473E-8106-8F8F298EA3B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4820-A661-4E69-A12B-29324419742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F6A5-5718-4E01-8176-1D01AE4233F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E156-8963-4169-9432-80F5B1017BE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ABFF-63C5-4B29-99D8-8C08CA6E38A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35FC-10EE-44B1-885F-9046DD43E63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80 Pán Boh je lás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Boh je láska svätá a stál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Boh je lásk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on nás má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ľme ho radostne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Boh je lásk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Boh je lásk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nás má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nesmiernej lásky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l Syna svoj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ú veľkú obeť kto pochopí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ľme ho radostne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Boh je lásk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Boh je lásk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nás má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zve nás k seb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losť nám núk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rápení dáva Tešiteľ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ľme ho radostne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Boh je lásk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Boh je lásk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nás má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 celý život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ne mu slúž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jeho menu vzdávajme česť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ľme ho radostne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Boh je lásk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Boh je lásk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nás má rád.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3:55:34Z</dcterms:modified>
  <cp:revision>82</cp:revision>
  <dc:subject/>
  <dc:title>Je veľký náš Pán, on slávy je Kráľ Nech do všetkých strán  spev vrúcnych znie chvál.</dc:title>
</cp:coreProperties>
</file>